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99DE-1AA8-488D-8D5C-F51078C785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Verb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 the sharing of di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nner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as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n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32. Write the correct answer for each of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randpa and Billy (build, builds) a special tr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 (see, sees) Grandpa was serious and I get inter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ons (jump, jumps) at the opportunity to steal a shiny piece of me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y (carry, carries) the trap to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Neither Grandpa nor the coons (give, gives) up on th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He (carry, carries) out our knives, forks, and sp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s and verbs must work together. They must agree. A verb that does not end in a single s, es, or ies is used with a plural noun. These pronoun subjects - I, we, you, or they – are also used with the plural verb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Anything that was bright and shinny, he (take, takes) to his 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Mama and Papa (catch, catches) me cutting out the circles of tin with the good sciss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My mother's old churn (topple, topples) over and spills the bu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Everything (go, goes) in the trash p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apa's words (perk, perks) me up just like air does a deflated inner tu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orning after morning I (feel, feels) the same old disappoin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The family (sit, sits) down to breakf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eeks (go, goes)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ma (yell, yells) something to him about a sn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Neither Little Ann nor Old Dan (see, sees) the racc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t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of all varieties train their noses to follow specific sc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c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by the river catch raccoons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in a hollow log make a good raccoon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Each (freeze, freezes) in his tr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ma’s hot apple pie (grow, grows) cold waiting on the hunters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Each of the men (catch, catches) three c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Billy, as well as his Papa, (feel, feels) using a shotgun is unfair in a coon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Neither Little Ann or Old Dan (give, gives) the raccoon a lead in the c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 Standing there looking happy (was, were) Grandpa an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Eight pounds of cheese (is, are) heavy to car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Only one out of five boys in America (like, likes) to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The news of the coon hunt (spread, spreads) through the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Fifty dollars (was, were) a lot of money for Billy to 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 he will catch a raccoon in anoth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 raccoons down in the vall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At the end of a long trip (come, comes) a victorious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  Which of the following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urn the boy pup l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art in and grab him by the hind l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pup under each arm Billy run for th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and Papa yells something to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hout, "Where did it bite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sisters jumps up and hug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looks at me, smile, and turns to the gir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answers surprise Ma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ems fine to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rls bury their faces in Mama's 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whack him again and it was all o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smile when they realize Billy is not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ch trees leans out over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tout legs help with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n hunting teach Billy to be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grandfather's store sit on top of the mou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pa ki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Little Ann or Old Dan fall in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seems like a long time for a 12 year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ears the wind in the top of th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nouns I and you are singular you use the plural forms of the verb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Billy will catch a raccoon s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 your boots the trap will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ules about subject verb agreement, but we are going to cover just one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confused by subjects that come at the end of the sen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as Billy’s parents. (Turn the sentence around and it will be clearer. Billy’s parents was standing in the back of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ere Billy’s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 the passing out of trophies. (Turn the sentence around and it will be clearer. The passing out of trophies come at the end of the coon h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s the passing out of 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F78F5-F57A-47FF-B7B9-5500D790C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0611-2051-4E0F-BB5C-B7805B80C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3D0FD-DE1B-4BBD-8B92-2F799E65A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22320-C1BC-4BFD-A795-37CBDD204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A0C97-0B0B-4645-BF4D-2909A6EE4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DFA5B-9ECC-4FD6-B183-01CF25B59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1D13F-1A40-4731-9872-E7B964893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98EAD-7B7F-4D3C-B4FF-5FD17D6B0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89FBF-341E-4EBC-8F1E-2E1C55FAA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41B43-FEC8-4E3A-B75F-8C544C271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25A21-C2A0-43F2-B82B-C10A8ED4F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FB47-D56F-4CEB-AB23-71902FCB9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7A603-2AC7-49DF-8B98-218BF2528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D1449-5B3D-4481-83BB-8901832CA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1E788-56E0-4EFB-BE06-9CCF14F02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831F2-428F-4972-8DCF-7C7715F28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7FD8C-A8F1-46AD-B9FC-2E661262D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EDA30-9DBA-4632-BA1F-44ECADE1B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1B0F-21A8-4522-817D-C73AB95F4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CC04A-A92B-450A-8E68-7EBB54DF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B5D0B-C452-45B3-A8C0-408FC39A2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2D94-7083-45D6-9B84-9FCB42AED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A521-1257-4BBE-AF43-E81BC4384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2FAA-49D3-429B-9FEE-20B762CCD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D041-22D1-43CE-BF5D-31C1E79A36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E5F8-F555-4A5B-8B92-C02D85B033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bject/Verb Agreement</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art 2</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 the sharing of dinner.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ner comes</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as three dirty men.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en were</a:t>
            </a: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Grandpa and Billy (build, builds) a special tra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I (see, sees) Grandpa was serious and I get interest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ons (jump, jumps) at the opportunity to steal a shiny piece of meta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They (carry, carries) the trap 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Neither Grandpa nor the coons (give, gives) up on the pl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He (carry, carries) out our knives, forks, and sp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3000"/>
            <a:ext cx="8229600" cy="49528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cts and verbs must work together. They must agree. A verb that does not end in a single s, es, or ies is used with a plural noun. These pronoun subjects - </a:t>
            </a:r>
            <a:r>
              <a:rPr b="1" lang="en-US" sz="4000" spc="-1" strike="noStrike">
                <a:solidFill>
                  <a:srgbClr val="ffffff"/>
                </a:solidFill>
                <a:latin typeface="Tahoma"/>
              </a:rPr>
              <a:t>I, we, you, or they – </a:t>
            </a:r>
            <a:r>
              <a:rPr b="0" lang="en-US" sz="4000" spc="-1" strike="noStrike">
                <a:solidFill>
                  <a:srgbClr val="ffffff"/>
                </a:solidFill>
                <a:latin typeface="Tahoma"/>
              </a:rPr>
              <a:t>are also used with the plural verb fo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nything that was bright and shinny, he (take, takes) to his d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ama and Papa (catch, catches) me cutting out the circles of tin with the good scissor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My mother's old churn (topple, topples) over and spills the butt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Everything (go, goes) in the trash p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Papa's words (perk, perks) me up just like air does a deflated inner tub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Morning after morning I (feel, feels) the same old disappointme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family (sit, sits) down to breakfa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Weeks (go, goes) b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Mama (yell, yells) something to him about a snak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Neither Little Ann nor Old Dan (see, sees) the raccoo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9" name="PlaceHolder 2"/>
          <p:cNvSpPr>
            <a:spLocks noGrp="1"/>
          </p:cNvSpPr>
          <p:nvPr>
            <p:ph/>
          </p:nvPr>
        </p:nvSpPr>
        <p:spPr>
          <a:xfrm>
            <a:off x="457200" y="1219320"/>
            <a:ext cx="8229600" cy="4495680"/>
          </a:xfrm>
          <a:prstGeom prst="rect">
            <a:avLst/>
          </a:prstGeom>
          <a:noFill/>
          <a:ln w="0">
            <a:noFill/>
          </a:ln>
        </p:spPr>
        <p:txBody>
          <a:bodyPr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train</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of all varieties train their noses to follow specific scents.</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catch</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by the river catch raccoons quickly.</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make</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in a hollow log make a good raccoon trap.</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Each (freeze, freezes) in his trac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Mama’s hot apple pie (grow, grows) cold waiting on the hunters to retu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Each of the men (catch, catches) three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Billy, as well as his Papa, (feel, feels) using a shotgun is unfair in a coon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Neither Little Ann or Old Dan (give, gives) the raccoon a lead in the chas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Standing there looking happy (was, were) Grandpa and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Eight pounds of cheese (is, are) heavy to carr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Only one out of five boys in America (like, likes) to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The news of the coon hunt (spread, spreads) through the hill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Fifty dollars (was, were) a lot of money for Billy to ea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Examp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 he will catch a raccoon in another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 raccoons down in the valle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At the end of a long trip (come, comes) a victorious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8.  Which of the following is written correctly? </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urn the boy pup loo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dart in and grab him by the hind leg.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th a pup under each arm Billy run for the hou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nd Papa yells something to hi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9. Which of the following sentences does not contain a mistake? </a:t>
            </a:r>
            <a:endParaRPr b="0" lang="en-US" sz="4000" spc="-1" strike="noStrike">
              <a:solidFill>
                <a:srgbClr val="ffffcc"/>
              </a:solidFill>
              <a:latin typeface="Tahoma"/>
            </a:endParaRPr>
          </a:p>
        </p:txBody>
      </p:sp>
      <p:sp>
        <p:nvSpPr>
          <p:cNvPr id="145" name="PlaceHolder 2"/>
          <p:cNvSpPr>
            <a:spLocks noGrp="1"/>
          </p:cNvSpPr>
          <p:nvPr>
            <p:ph/>
          </p:nvPr>
        </p:nvSpPr>
        <p:spPr>
          <a:xfrm>
            <a:off x="457200" y="1752120"/>
            <a:ext cx="8229600" cy="4953240"/>
          </a:xfrm>
          <a:prstGeom prst="rect">
            <a:avLst/>
          </a:prstGeom>
          <a:noFill/>
          <a:ln w="0">
            <a:noFill/>
          </a:ln>
        </p:spPr>
        <p:txBody>
          <a:bodyPr anchor="t">
            <a:normAutofit/>
          </a:bodyPr>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he shout, "Where did it bite you?"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sisters jumps up and hug me.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looks at me, smile, and turns to the girls.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ir answers surprise Mam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0. Choose the answer that is written correctly.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ou seems fine to m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girls bury their faces in Mama's dress.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whack him again and it was all o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verybody smile when they realize Billy is not hur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1. Which of the following sentences does not contain a mistake? </a:t>
            </a:r>
            <a:endParaRPr b="0" lang="en-US" sz="4000" spc="-1" strike="noStrike">
              <a:solidFill>
                <a:srgbClr val="ffffcc"/>
              </a:solidFill>
              <a:latin typeface="Tahoma"/>
            </a:endParaRPr>
          </a:p>
        </p:txBody>
      </p:sp>
      <p:sp>
        <p:nvSpPr>
          <p:cNvPr id="149" name="PlaceHolder 2"/>
          <p:cNvSpPr>
            <a:spLocks noGrp="1"/>
          </p:cNvSpPr>
          <p:nvPr>
            <p:ph/>
          </p:nvPr>
        </p:nvSpPr>
        <p:spPr>
          <a:xfrm>
            <a:off x="457200" y="2133720"/>
            <a:ext cx="8229600" cy="4495680"/>
          </a:xfrm>
          <a:prstGeom prst="rect">
            <a:avLst/>
          </a:prstGeom>
          <a:noFill/>
          <a:ln w="0">
            <a:noFill/>
          </a:ln>
        </p:spPr>
        <p:txBody>
          <a:bodyPr anchor="t">
            <a:normAutofit/>
          </a:bodyPr>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rch trees leans out over the river.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 stout legs help with leverage.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n hunting teach Billy to be patient.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grandfather's store sit on top of the moun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2. Choose the answer that is written correctly.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kid Billy.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ither Little Ann or Old Dan fall in the ri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wo years seems like a long time for a 12 year old.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hears the wind in the top of the trees. </a:t>
            </a:r>
            <a:endParaRPr b="0" lang="en-US" sz="4000" spc="-1" strike="noStrike">
              <a:solidFill>
                <a:srgbClr val="ffffff"/>
              </a:solidFill>
              <a:latin typeface="Tahoma"/>
            </a:endParaRPr>
          </a:p>
          <a:p>
            <a:pPr marL="76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en More Exampl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n though the pronouns I and you are singular you use the plural forms of the verb with them.</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Billy will catch a raccoon soon.</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 your boots the trap will work.</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re are many rules about subject verb agreement, but we are going to cover just one mo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44440"/>
            <a:ext cx="7927920" cy="508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n’t be confused by subjects that come at the end of the sentenc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60"/>
            <a:ext cx="8229600" cy="609588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as Billy’s parents. (Turn the sentence around and it will be clearer. Billy’s parents was standing in the back of the room.)</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ere Billy’s pare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60"/>
            <a:ext cx="8229600" cy="609588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 the passing out of trophies. (Turn the sentence around and it will be clearer. The passing out of trophies come at the end of the coon hun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s the passing out of troph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1:41:54Z</dcterms:created>
  <dc:creator>Gay  Miller</dc:creator>
  <dc:description/>
  <dc:language>en-US</dc:language>
  <cp:lastModifiedBy>RomaK</cp:lastModifiedBy>
  <dcterms:modified xsi:type="dcterms:W3CDTF">2015-09-02T09:41:31Z</dcterms:modified>
  <cp:revision>28</cp:revision>
  <dc:subject/>
  <dc:title>Subject/Verb Agreement</dc:title>
</cp:coreProperties>
</file>